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12F-8EE1-4A52-BADD-2A4AFF9F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F97-D750-459C-A274-09B99536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434-BF4D-49AF-81F2-416B91F8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BDEF-CA76-4FD7-B847-2805B37E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BBC-762C-4E32-B120-5629D2F8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B5C-E1B4-4784-A685-AC7E470F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356-0F79-434A-9043-57682866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698-84CC-433A-A5EA-D39EE251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607-4FA9-46C4-ACC6-50AFC6F8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052-7EB4-44B0-A927-A6C3933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4CB-92E5-4D81-B21A-AFA3578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941-5492-47C8-B4ED-0E881DB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2533-5B71-40F4-941D-93265081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206064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SSIVE VOICE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46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.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was being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7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.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was being 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ll be he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should write      The songs ______________by 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735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should write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ng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be writ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Mad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50920" y="1557360"/>
            <a:ext cx="52578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ET'S PRACT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9916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tense has a passive form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assive is formed b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TO B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+  PAST PARTIC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20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CO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que poner el verbo “TO BE” en el tiempo verbal que ser nos p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61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_______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___________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stadium_______ 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61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___________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stadium_______ 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_______ 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uropean Cup___ (never) by a French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61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____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0"/>
            <a:ext cx="964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to p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pi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SIMPLE        I w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met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e wo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CONTINUOUS   I am building   A new stadium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s being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. PER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have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The E. Cup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as never been w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F.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s sc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last min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CONTINUOUS    I was playing    I arrived while the national anthe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SIMPLE         I will 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12 Olympics__________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5:04:32Z</dcterms:created>
  <dc:creator>rmi</dc:creator>
  <dc:description/>
  <dc:language>en-US</dc:language>
  <cp:lastModifiedBy>IESFGL</cp:lastModifiedBy>
  <dcterms:modified xsi:type="dcterms:W3CDTF">2010-05-27T09:06:23Z</dcterms:modified>
  <cp:revision>11</cp:revision>
  <dc:subject/>
  <dc:title>Diapositiva 1</dc:title>
</cp:coreProperties>
</file>